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BEA4-2BA7-4058-9859-EBD47676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1153-B76E-4CEC-A4ED-B2D8FF09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2F22-97AC-4035-9362-45539B9E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5AF1-F8C1-4087-94D8-3301928A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D4DA-BA5F-4122-92AB-4F368A6D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E939-7204-4308-BB5E-46C2CD34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6694-9CDA-47F3-9DAF-2AEED9E4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EC32-914C-4D26-9ACD-F61CB0D8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AE56-010F-4BC4-AC84-40C4E6A5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36F3-E1A9-497B-BD47-104AEE03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9F0C-E15D-49B3-8AD5-58C27479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3382-425E-4DAE-B8E5-5E1A0A2C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C3EC-5559-4480-ACF0-3117C4D2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693A-BA5D-42BF-B50E-B0E7347B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D365-3BB1-44B4-B194-17D4C183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02E7-67AD-401C-BFA2-05DB71FF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87A9-385E-4EDF-80F7-70302966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8BF4-6791-48E4-AB49-FC42A4A8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3075-6564-40C5-94ED-A45C2607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2100-5D15-456B-A9E6-231E75CF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FF92-D34A-4ED5-9A39-F62E2DE3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BB84-8D6A-46CE-A974-2FEB11E6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8A2E-976A-41D2-8CDE-2AB353E0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861C-947D-4E12-9080-3917544D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0159-A916-46E9-9768-A21FCC51D77D}" type="slidenum">
              <a:rPr b="0" lang="pt-P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EA02-A5B8-437B-B100-CB19E183A577}" type="slidenum">
              <a:rPr b="0" lang="pt-PT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333399"/>
                </a:solidFill>
                <a:latin typeface="Tahoma"/>
              </a:rPr>
              <a:t>RELATÓRIO DE TRABALHO NA INHA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666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 3 a 13 de Julho de 20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333399"/>
                </a:solidFill>
                <a:latin typeface="Tahoma"/>
                <a:ea typeface="宋体"/>
              </a:rPr>
              <a:t>5. Medição de correntes das Marés (Cont.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1294920" y="1981080"/>
            <a:ext cx="7011000" cy="4038840"/>
            <a:chOff x="1294920" y="1981080"/>
            <a:chExt cx="7011000" cy="4038840"/>
          </a:xfrm>
        </p:grpSpPr>
        <p:sp>
          <p:nvSpPr>
            <p:cNvPr id="137" name="AutoShape 5"/>
            <p:cNvSpPr/>
            <p:nvPr/>
          </p:nvSpPr>
          <p:spPr>
            <a:xfrm>
              <a:off x="1295280" y="1981080"/>
              <a:ext cx="7010640" cy="40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1441080" y="1981080"/>
              <a:ext cx="3482280" cy="38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5068080" y="2052360"/>
              <a:ext cx="2945160" cy="38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40" name="Picture 8" descr="100_2772"/>
            <p:cNvPicPr/>
            <p:nvPr/>
          </p:nvPicPr>
          <p:blipFill>
            <a:blip r:embed="rId1"/>
            <a:stretch/>
          </p:blipFill>
          <p:spPr>
            <a:xfrm rot="5400000">
              <a:off x="1053360" y="2222280"/>
              <a:ext cx="4038840" cy="355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9" descr="100_2770"/>
            <p:cNvPicPr/>
            <p:nvPr/>
          </p:nvPicPr>
          <p:blipFill>
            <a:blip r:embed="rId2"/>
            <a:stretch/>
          </p:blipFill>
          <p:spPr>
            <a:xfrm>
              <a:off x="4633200" y="1981080"/>
              <a:ext cx="3672360" cy="40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Line 10"/>
            <p:cNvSpPr/>
            <p:nvPr/>
          </p:nvSpPr>
          <p:spPr>
            <a:xfrm flipH="1">
              <a:off x="3485520" y="2551320"/>
              <a:ext cx="87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Text Box 11"/>
            <p:cNvSpPr/>
            <p:nvPr/>
          </p:nvSpPr>
          <p:spPr>
            <a:xfrm>
              <a:off x="4365360" y="2408040"/>
              <a:ext cx="122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800" spc="-1" strike="noStrike">
                  <a:solidFill>
                    <a:srgbClr val="000000"/>
                  </a:solidFill>
                  <a:latin typeface="Arial"/>
                </a:rPr>
                <a:t>Boias de sustentaçao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PT" sz="800" spc="-1" strike="noStrike">
                  <a:solidFill>
                    <a:srgbClr val="000000"/>
                  </a:solidFill>
                  <a:latin typeface="Arial"/>
                </a:rPr>
                <a:t>do correntometro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4" name="Text Box 13"/>
          <p:cNvSpPr/>
          <p:nvPr/>
        </p:nvSpPr>
        <p:spPr>
          <a:xfrm>
            <a:off x="3057840" y="6172200"/>
            <a:ext cx="285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to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ante a amracao do correntometr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333399"/>
                </a:solidFill>
                <a:latin typeface="Tahoma"/>
                <a:ea typeface="宋体"/>
              </a:rPr>
              <a:t>5. Medição de correntes das Marés (Cont.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250040" cy="3724200"/>
          </a:xfrm>
          <a:prstGeom prst="rect">
            <a:avLst/>
          </a:prstGeom>
          <a:ln w="0">
            <a:noFill/>
          </a:ln>
        </p:spPr>
      </p:pic>
      <p:sp>
        <p:nvSpPr>
          <p:cNvPr id="147" name="Line 6"/>
          <p:cNvSpPr/>
          <p:nvPr/>
        </p:nvSpPr>
        <p:spPr>
          <a:xfrm>
            <a:off x="1981080" y="2362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62600" y="2133720"/>
            <a:ext cx="16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oia de sinalizaca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5715000" y="236232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2895480" y="2057400"/>
            <a:ext cx="318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oias de sustentacao do correntometr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10"/>
          <p:cNvSpPr/>
          <p:nvPr/>
        </p:nvSpPr>
        <p:spPr>
          <a:xfrm flipH="1">
            <a:off x="69343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7309800" y="403848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rrentometr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12"/>
          <p:cNvSpPr/>
          <p:nvPr/>
        </p:nvSpPr>
        <p:spPr>
          <a:xfrm flipH="1" flipV="1">
            <a:off x="2590560" y="5866920"/>
            <a:ext cx="3809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14"/>
          <p:cNvSpPr/>
          <p:nvPr/>
        </p:nvSpPr>
        <p:spPr>
          <a:xfrm flipH="1" flipV="1">
            <a:off x="5943600" y="59432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6400800" y="6095880"/>
            <a:ext cx="7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ncor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16"/>
          <p:cNvSpPr/>
          <p:nvPr/>
        </p:nvSpPr>
        <p:spPr>
          <a:xfrm flipH="1">
            <a:off x="7010280" y="4572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7548120" y="441972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2222280" y="6400800"/>
            <a:ext cx="425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a 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figura ilustra o esquema de amaracao do correntometr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20"/>
          <p:cNvSpPr/>
          <p:nvPr/>
        </p:nvSpPr>
        <p:spPr>
          <a:xfrm flipH="1">
            <a:off x="3733920" y="4572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21"/>
          <p:cNvSpPr/>
          <p:nvPr/>
        </p:nvSpPr>
        <p:spPr>
          <a:xfrm flipH="1">
            <a:off x="3733560" y="44197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22"/>
          <p:cNvSpPr/>
          <p:nvPr/>
        </p:nvSpPr>
        <p:spPr>
          <a:xfrm flipV="1">
            <a:off x="3581280" y="43430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23"/>
          <p:cNvSpPr/>
          <p:nvPr/>
        </p:nvSpPr>
        <p:spPr>
          <a:xfrm>
            <a:off x="3581280" y="4495680"/>
            <a:ext cx="381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24"/>
          <p:cNvSpPr/>
          <p:nvPr/>
        </p:nvSpPr>
        <p:spPr>
          <a:xfrm>
            <a:off x="7696080" y="2362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25"/>
          <p:cNvSpPr/>
          <p:nvPr/>
        </p:nvSpPr>
        <p:spPr>
          <a:xfrm>
            <a:off x="6715080" y="1905120"/>
            <a:ext cx="24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inalizacao do correntometr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26"/>
          <p:cNvSpPr/>
          <p:nvPr/>
        </p:nvSpPr>
        <p:spPr>
          <a:xfrm flipH="1">
            <a:off x="7162560" y="213372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333399"/>
                </a:solidFill>
                <a:latin typeface="Tahoma"/>
                <a:ea typeface="宋体"/>
              </a:rPr>
              <a:t>5. Medição de correntes de Marés (Cont.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Picture 12" descr="100_2813"/>
          <p:cNvPicPr/>
          <p:nvPr/>
        </p:nvPicPr>
        <p:blipFill>
          <a:blip r:embed="rId1"/>
          <a:stretch/>
        </p:blipFill>
        <p:spPr>
          <a:xfrm>
            <a:off x="4876920" y="1981080"/>
            <a:ext cx="4078080" cy="42674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9"/>
          <p:cNvSpPr/>
          <p:nvPr/>
        </p:nvSpPr>
        <p:spPr>
          <a:xfrm>
            <a:off x="754920" y="6284880"/>
            <a:ext cx="307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to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mento de instalacao do correntometr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5482080" y="620388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to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rrentometro instalad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17" descr="100_2916"/>
          <p:cNvPicPr/>
          <p:nvPr/>
        </p:nvPicPr>
        <p:blipFill>
          <a:blip r:embed="rId2"/>
          <a:stretch/>
        </p:blipFill>
        <p:spPr>
          <a:xfrm>
            <a:off x="762120" y="1981080"/>
            <a:ext cx="41907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6.Resultad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219320" y="1905120"/>
          <a:ext cx="7162560" cy="1371600"/>
        </p:xfrm>
        <a:graphic>
          <a:graphicData uri="http://schemas.openxmlformats.org/drawingml/2006/table">
            <a:tbl>
              <a:tblPr/>
              <a:tblGrid>
                <a:gridCol w="4244760"/>
                <a:gridCol w="1470240"/>
                <a:gridCol w="14475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: Canal de Inha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ré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Mor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ré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v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fundidade (metr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locidade Maxima (cm/s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locidade Media (cm/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locidade Minima (cm/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219320" y="3505320"/>
          <a:ext cx="7162560" cy="1371600"/>
        </p:xfrm>
        <a:graphic>
          <a:graphicData uri="http://schemas.openxmlformats.org/drawingml/2006/table">
            <a:tbl>
              <a:tblPr/>
              <a:tblGrid>
                <a:gridCol w="4222800"/>
                <a:gridCol w="1492200"/>
                <a:gridCol w="14475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: Estreito da Ponta Tor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ré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Mor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ré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v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fundidade (metr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locidade Maxima (cm/s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locidade Media (cm/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locidade Minima (cm/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219320" y="5105520"/>
          <a:ext cx="7162560" cy="1441440"/>
        </p:xfrm>
        <a:graphic>
          <a:graphicData uri="http://schemas.openxmlformats.org/drawingml/2006/table">
            <a:tbl>
              <a:tblPr/>
              <a:tblGrid>
                <a:gridCol w="4241520"/>
                <a:gridCol w="1473480"/>
                <a:gridCol w="1447560"/>
              </a:tblGrid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: Canal da Ponta Tor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ré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Mor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ré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v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fundidade (metr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locidade Maxima (cm/s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locidade Media (cm/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locidade Minima (cm/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7.Constrangimen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82600" y="2017440"/>
            <a:ext cx="40752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intrumento foi removido antes de fazer 24 horas por operador turistic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82600" y="415116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instrumento ficou preso e teve que ficar durante 40 ho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8" descr="100_3088"/>
          <p:cNvPicPr/>
          <p:nvPr/>
        </p:nvPicPr>
        <p:blipFill>
          <a:blip r:embed="rId1"/>
          <a:stretch/>
        </p:blipFill>
        <p:spPr>
          <a:xfrm>
            <a:off x="5257800" y="182880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100_3298"/>
          <p:cNvPicPr/>
          <p:nvPr/>
        </p:nvPicPr>
        <p:blipFill>
          <a:blip r:embed="rId2"/>
          <a:stretch/>
        </p:blipFill>
        <p:spPr>
          <a:xfrm>
            <a:off x="5257800" y="4343400"/>
            <a:ext cx="3657600" cy="20574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0"/>
          <p:cNvSpPr/>
          <p:nvPr/>
        </p:nvSpPr>
        <p:spPr>
          <a:xfrm>
            <a:off x="5479200" y="3922560"/>
            <a:ext cx="30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to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mento de recuperacao do instrument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494320" y="6400800"/>
            <a:ext cx="31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to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mento de resgate do equipamento pres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8.Comcluso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rrente maxima verifica-se na mare v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maiores correntes encontram-se no canal da Ponta T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la dimensao da costa Mocambicana ha poten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9.Recomendaco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coes financeiras de modo a participarmos em todo processo desta  pesquisas dest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iar acordos com parceiros que estejam interesados em desenvolver estudos e tecnologias de estrcao de energias dos ocean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2546280" y="3124080"/>
            <a:ext cx="37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99"/>
                </a:solidFill>
                <a:latin typeface="Tahoma"/>
              </a:rPr>
              <a:t>O B R I G A D O 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Tahoma"/>
                <a:ea typeface="宋体"/>
              </a:rPr>
              <a:t>1. Introduçã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  <a:ea typeface="宋体"/>
              </a:rPr>
              <a:t>Foi conduzida pela Chalmers University of Tecnology, representada pelo Doutor Linus Hammar em coordenação com a Universidade Eduardo Mondlane, representada pelo Doutor Francisco Gemo Francisco onde a DNER representada pelo dr. Caixote participou como convid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  <a:ea typeface="宋体"/>
              </a:rPr>
              <a:t>A pesquisa consistiu na medição de correntes de marés em tres locais nomeadamente o canal da Inhaca proxima as barreiras vermelhas, estreito da ponta torres e canal da ponta torres estes dois ultimos locais estão ao longo do canal de Machangu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333399"/>
                </a:solidFill>
                <a:latin typeface="Tahoma"/>
                <a:ea typeface="宋体"/>
              </a:rPr>
              <a:t>2. Objectiv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002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ahoma"/>
                <a:ea typeface="宋体"/>
              </a:rPr>
              <a:t>Objectivo Ge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Objectivos especificos</a:t>
            </a:r>
            <a:r>
              <a:rPr b="0" lang="pt-PT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2.1.</a:t>
            </a:r>
            <a:r>
              <a:rPr b="1" lang="pt-PT" sz="3200" spc="-1" strike="noStrike">
                <a:solidFill>
                  <a:srgbClr val="333399"/>
                </a:solidFill>
                <a:latin typeface="Tahoma"/>
                <a:ea typeface="宋体"/>
              </a:rPr>
              <a:t>Objectivo Gera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  <a:ea typeface="宋体"/>
              </a:rPr>
              <a:t>Pesquisa e avaliação do potencial da energia das marés para produção de electricidade</a:t>
            </a:r>
            <a:r>
              <a:rPr b="0" lang="pt-PT" sz="32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2.2.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宋体"/>
              </a:rPr>
              <a:t>Objectivos especificos</a:t>
            </a:r>
            <a:r>
              <a:rPr b="0" lang="pt-PT" sz="3600" spc="-1" strike="noStrike">
                <a:solidFill>
                  <a:srgbClr val="333399"/>
                </a:solidFill>
                <a:latin typeface="Tahoma"/>
                <a:ea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  <a:ea typeface="宋体"/>
              </a:rPr>
              <a:t>Localização dos locais propos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  <a:ea typeface="宋体"/>
              </a:rPr>
              <a:t>Medir correntes de mar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  <a:ea typeface="宋体"/>
              </a:rPr>
              <a:t>Mapeamento dos locais identifi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993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333399"/>
                </a:solidFill>
                <a:latin typeface="Tahoma"/>
                <a:ea typeface="宋体"/>
              </a:rPr>
              <a:t>2.2.1 Localização dos locais propos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Picture 11" descr="100_2918"/>
          <p:cNvPicPr/>
          <p:nvPr/>
        </p:nvPicPr>
        <p:blipFill>
          <a:blip r:embed="rId1"/>
          <a:stretch/>
        </p:blipFill>
        <p:spPr>
          <a:xfrm>
            <a:off x="4572000" y="1981080"/>
            <a:ext cx="4230720" cy="426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100_2992"/>
          <p:cNvPicPr/>
          <p:nvPr/>
        </p:nvPicPr>
        <p:blipFill>
          <a:blip r:embed="rId2"/>
          <a:stretch/>
        </p:blipFill>
        <p:spPr>
          <a:xfrm>
            <a:off x="533520" y="1981080"/>
            <a:ext cx="4114800" cy="42674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5"/>
          <p:cNvSpPr/>
          <p:nvPr/>
        </p:nvSpPr>
        <p:spPr>
          <a:xfrm>
            <a:off x="691200" y="6405480"/>
            <a:ext cx="206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to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rco usado na pesqui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795200" y="6361200"/>
            <a:ext cx="338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to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memento da localizacao do local de estud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1295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333399"/>
                </a:solidFill>
                <a:latin typeface="Tahoma"/>
                <a:ea typeface="宋体"/>
              </a:rPr>
              <a:t>2.2.1. Localização dos locais propostos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宋体"/>
              </a:rPr>
              <a:t>(continuacao)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870960" cy="4230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621920" y="3048120"/>
            <a:ext cx="95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nal de Inhaca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Line 6"/>
          <p:cNvSpPr/>
          <p:nvPr/>
        </p:nvSpPr>
        <p:spPr>
          <a:xfrm flipH="1">
            <a:off x="5790960" y="3124080"/>
            <a:ext cx="1904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7696800" y="365760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streito da ponta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res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ine 8"/>
          <p:cNvSpPr/>
          <p:nvPr/>
        </p:nvSpPr>
        <p:spPr>
          <a:xfrm flipH="1">
            <a:off x="6248160" y="37339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7697160" y="43434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nal da ponta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res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10"/>
          <p:cNvSpPr/>
          <p:nvPr/>
        </p:nvSpPr>
        <p:spPr>
          <a:xfrm flipH="1" flipV="1">
            <a:off x="6324480" y="4114800"/>
            <a:ext cx="1447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1666800" y="6284880"/>
            <a:ext cx="222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a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pa da baia de Maput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4582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265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a) Instrumentos para localizacao dos locai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6" descr="100_3053"/>
          <p:cNvPicPr/>
          <p:nvPr/>
        </p:nvPicPr>
        <p:blipFill>
          <a:blip r:embed="rId1"/>
          <a:stretch/>
        </p:blipFill>
        <p:spPr>
          <a:xfrm>
            <a:off x="5145120" y="1828800"/>
            <a:ext cx="3809880" cy="4343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gps60_large"/>
          <p:cNvPicPr/>
          <p:nvPr/>
        </p:nvPicPr>
        <p:blipFill>
          <a:blip r:embed="rId2"/>
          <a:stretch/>
        </p:blipFill>
        <p:spPr>
          <a:xfrm>
            <a:off x="990720" y="1905120"/>
            <a:ext cx="4114800" cy="42670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1297800" y="6405480"/>
            <a:ext cx="198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to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S usado na pesqui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5347080" y="63244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to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ar para medir profundidad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333399"/>
                </a:solidFill>
                <a:latin typeface="Tahoma"/>
                <a:ea typeface="宋体"/>
              </a:rPr>
              <a:t>5. Medição de correntes das Maré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  <a:ea typeface="宋体"/>
              </a:rPr>
              <a:t>Correntes de marés na maré mor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  <a:ea typeface="宋体"/>
              </a:rPr>
              <a:t>Correntes de maré na maré  v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6" descr="100_2747"/>
          <p:cNvPicPr/>
          <p:nvPr/>
        </p:nvPicPr>
        <p:blipFill>
          <a:blip r:embed="rId1"/>
          <a:stretch/>
        </p:blipFill>
        <p:spPr>
          <a:xfrm>
            <a:off x="5791320" y="441972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100_2782"/>
          <p:cNvPicPr/>
          <p:nvPr/>
        </p:nvPicPr>
        <p:blipFill>
          <a:blip r:embed="rId2"/>
          <a:stretch/>
        </p:blipFill>
        <p:spPr>
          <a:xfrm>
            <a:off x="5791320" y="1828800"/>
            <a:ext cx="2971800" cy="19810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"/>
          <p:cNvSpPr/>
          <p:nvPr/>
        </p:nvSpPr>
        <p:spPr>
          <a:xfrm>
            <a:off x="5857920" y="37702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to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ante a more mor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5934600" y="6361200"/>
            <a:ext cx="18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to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ante a mare viv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10:01:12Z</dcterms:created>
  <dc:creator>psc</dc:creator>
  <dc:description/>
  <dc:language>en-US</dc:language>
  <cp:lastModifiedBy>user</cp:lastModifiedBy>
  <dcterms:modified xsi:type="dcterms:W3CDTF">2012-08-02T13:55:04Z</dcterms:modified>
  <cp:revision>12</cp:revision>
  <dc:subject/>
  <dc:title>Diapositivo 1</dc:title>
</cp:coreProperties>
</file>